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7D5-3920-48DC-9D89-F4500F7C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F0A-A76E-4DD1-8588-9ECEB0C7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82C-BF6F-4960-A264-3B78A8E2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1DB7-3A0A-4EDD-9B83-45E97629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0292-18E5-455E-9F80-B1B11B4F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452C-219E-4FC2-B4A5-FCF1830D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E266-2FA2-410A-8E94-CED7B314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2B1F-F2BD-4EE3-A5B5-436DE02F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CBEA-45F2-4551-A877-E605C0C3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1BC3-DD8A-4EFF-8F66-B23E9C9C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F350-647E-4232-9898-18F1C9C4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2BC-7F7A-4073-94E0-10CEC801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8747-5857-48F4-9150-4FEC8BA5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D4FF-65A1-4F63-AE12-44A104B5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759A-3784-4B75-B852-5064A443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9DF8-3484-4FB9-A92A-AFA6A9CD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EC75-0689-4152-B6D4-BF3EAA26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4BD-ADD8-4FE1-86CE-F5B4FE26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43E-011E-422A-B489-92D5128F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4A3-F678-4D64-AD21-270E08BC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417-5616-493D-A324-F641711B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B497-B713-4D98-8102-001FF422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92C-8084-4D86-92FF-6EB1A146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D5D-B8A3-4FBE-BFBA-028CF55A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D184-CFBF-48DE-BC3F-66472CC9A6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8995-9E17-452C-85B1-49BCF2810C1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quest of the La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438280" y="3580920"/>
            <a:ext cx="5486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3, Lesson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h. 7:1 – 9: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Pages 25-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3352680"/>
            <a:ext cx="5943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ut, let’s review first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id Israel cross the Jordan riv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memorials were set u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two important events occurred at Gilg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as Jericho defeat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was Rahab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role does she play lat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15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H="1">
            <a:off x="3200400" y="1752480"/>
            <a:ext cx="228600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638680" y="380880"/>
            <a:ext cx="3267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Central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1981080"/>
            <a:ext cx="3657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Sin of Acha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7:1-26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rael defeated at A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6 Israelites killed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:1-1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son: S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:11-12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 to find the “accursed” ma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:13-1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han, and all his possessions, destroye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:19-26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What did Achan take?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Ebal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Gerizi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3809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38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3200400" y="1752480"/>
            <a:ext cx="228600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38680" y="380880"/>
            <a:ext cx="3267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Central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1981080"/>
            <a:ext cx="3657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Defeat of A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8:1-29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 to take A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1-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ople of Ai ambushed by Israel – none escap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9-22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i destroyed by fir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23-2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ing of Ai hange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29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What was Joshua doing during the battle?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3809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Ebal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Gerizi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62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65" name=""/>
          <p:cNvSpPr/>
          <p:nvPr/>
        </p:nvSpPr>
        <p:spPr>
          <a:xfrm flipH="1">
            <a:off x="3200400" y="1752480"/>
            <a:ext cx="228600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638680" y="380880"/>
            <a:ext cx="3267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Central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2" name=""/>
          <p:cNvSpPr/>
          <p:nvPr/>
        </p:nvSpPr>
        <p:spPr>
          <a:xfrm>
            <a:off x="5486400" y="1981080"/>
            <a:ext cx="3657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srael Claims the La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8:30-35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shua builds an altar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30-31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law of Moses written on the stone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32-33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law read to ALL the peopl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34-3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Where was the ark at this time?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member: Deut. 27:1-14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2743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t. Eb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t. Gerizi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5638680"/>
            <a:ext cx="38098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entral Campaign is completed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87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90" name=""/>
          <p:cNvSpPr/>
          <p:nvPr/>
        </p:nvSpPr>
        <p:spPr>
          <a:xfrm flipH="1">
            <a:off x="2895120" y="1752480"/>
            <a:ext cx="2590920" cy="2743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Sou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7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4038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2057400"/>
            <a:ext cx="380988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Deceit of the Gibeoni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9:1-27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ings gather to fight Israel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1-2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beonites strategy to deceive Joshu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3-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shua and the elders fall for the story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6-14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rael made a treaty with the Gibeonite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1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4419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267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213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216" name=""/>
          <p:cNvSpPr/>
          <p:nvPr/>
        </p:nvSpPr>
        <p:spPr>
          <a:xfrm flipH="1">
            <a:off x="2895120" y="1752480"/>
            <a:ext cx="2590920" cy="2743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Sou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6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8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038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Ebal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Gerizi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2057400"/>
            <a:ext cx="38098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Deceit of the Gibeoni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9:1-27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rael learns of the deceit but honors the treat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16-2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beonites becomes servants to Israel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21-27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Why was it wrong to make a treaty?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4267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4419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7:00:00Z</dcterms:created>
  <dc:creator>Terry W. Benton</dc:creator>
  <dc:description/>
  <dc:language>en-US</dc:language>
  <cp:lastModifiedBy>Frank D Vines</cp:lastModifiedBy>
  <dcterms:modified xsi:type="dcterms:W3CDTF">2005-05-26T22:15:54Z</dcterms:modified>
  <cp:revision>30</cp:revision>
  <dc:subject/>
  <dc:title>Joshua: The New Leader</dc:title>
</cp:coreProperties>
</file>